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CF4-CB32-4553-AD3C-DFB6790F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7CF-E879-4899-9DA8-2CF4F150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5A4-4C53-47DB-ACA5-B9C30832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74C-0177-4AA9-B441-AF59F2FE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974-61D1-4C9E-A2AC-C08A624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284-B44B-4D12-9729-7D27742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DBC-D1C2-48A1-A2B2-AA31C1A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FA4-1413-46FD-8CA3-EDC8676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A93-0AAB-4187-9414-4EF9C20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0A6-2539-4F5C-8A09-F02BC71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B9A-C770-4559-BEF4-803F0B32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D19-912A-4442-8508-D14D3167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EA2-A0BB-4971-9523-DE5189A2C2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197000"/>
            <a:ext cx="5257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 ب نوري وخلاصي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 نوري وخلاص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خاف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ُ حصنُ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فزع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تقدّم عليَّ الأشرار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لوا لحمي مُضايقيَّ وأعدائي فإنّهم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عثـُرون ويسقُطون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اصطفَّ عليَّ عسكر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ا يخافُ قلب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قامَ عليَّ قتال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في ذلك ثقت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حدةً سألتُ الربّ وإيّاها ألتمس. أن أُقيمَ ببيتِ الربِ جميعَ أيام حياتي، لكي أُعاينَ نعيمَ الربِ وأتأمّل في هيكَلِهِ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1000"/>
            <a:ext cx="9144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ه يخبّأني في مِظَلَّتِهِ يومَ الشرِ ويستُرني بسِترِ خِبائِه وعلى صخرةٍ يرفَعُني. فحينئذٍ يعلو رأسي فوقَ أعدائي من حولي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1000"/>
            <a:ext cx="9144000" cy="1146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ذبحُ في خبائِه ذبائِحَ هُتافٍ. أُرَنِّمُ وأُشيدُ للربِ. إِستَمِع ياربّي، إنّي بصوتي أدعو فارحَمني، واستجب لي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0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َ نَطَقَ قلب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َ التمَسَ وجه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َهَك يا ربِّ ألتمس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َحجُب وجهَك عنّي ولا تنبذ بغضَبٍ عبدكَ. ناصراً كنتَ لي، فلا تَخذلُني ولا تترُكني، يا إلهَ خلاص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1:59Z</dcterms:created>
  <dc:creator>Charbel Azar</dc:creator>
  <dc:description/>
  <dc:language>en-US</dc:language>
  <cp:lastModifiedBy>-</cp:lastModifiedBy>
  <dcterms:modified xsi:type="dcterms:W3CDTF">2003-01-03T12:51:55Z</dcterms:modified>
  <cp:revision>6</cp:revision>
  <dc:subject/>
  <dc:title>PowerPoint Presentation</dc:title>
</cp:coreProperties>
</file>